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E97-992F-4E4F-ABC6-1DBC8C2B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D8E-6979-42D7-ADF3-915B4EB8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18D-9B53-4AF7-89AB-C4EFB0E1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261-3823-4D27-9A5A-1BEFCFA0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16A-915A-43FD-A7DE-9242F079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209-CFAC-4C64-8349-202A33ED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195-7C12-4F14-A032-3C2C6DB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500-FB47-4BD7-AAE2-AC002213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559-D159-44B1-BEF2-CCB5F9D2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5F1-FCAD-4B5F-94AC-54E3ED0B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6DF-899D-4BBD-8BD3-43D5FF2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477-BBD7-4483-9195-9978822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B4148-F155-45C7-B186-3F4E7D53F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77766-78CF-415C-B02B-1223150D2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ME PRE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devoe bet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te going to places in young teens don’t act righ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CIR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icago and Cincinnati have programs that is working for gang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IRV began in April, with funding from from U.S Department of Justice after the city recorded a record 89 killings in 2007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 strong  anti-violence messages and encourage to spread the word to teen in the stre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fter that they are contract with “street advocates” who counsel them on turning a new leaf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rap Iron shifted gang intervention from police work elaborate behavioral approach that has two prongs: using law enforcement to aggressively get the message of zero toleran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Let’s Ban Together to Right to Fight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rder to prevent crime, we must concentrate on getting our children off good start by helping them grew up with moral val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ween 1988 and 1993 youth homicide rate more than doubled while adult homicide rates stay the sam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velopment of violence prevention programs and it conducts research on the causes of violence and the effectiveness of preven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crime is against property, not people, and not many crimes are carefully plann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 anti-organization of over 5,000 police  chiefs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Chief Say “Anti-violence Plan Under Way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 Craig the city’s first black police chief and first candidate chosen outside the police depar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319560" y="2898720"/>
            <a:ext cx="2622600" cy="2622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618000" y="570060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ncinnatinewshub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inue “Anti-Violence Plan Under Way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about young people making good decisions, good chooses. I’m very big on the business of intervention prevention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pite a rash of recent police –involved shooting some officers still want to work with young children that is and criminal behavior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nt to start a “Boot Camp” at Over-The-Rhine school campus for at-risk youth, but that idea is on ho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nt Professional football players to help out, he feel that it’s going to help young teens because they look up to celebri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’s Planning a city-wide forum possibly in October to help determine the best approach  to reducing the cri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asefire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did my research on this program I saw a lot of thing like their program is very effec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ert Wood Johnson which has supported Ceasefire since 1999 with $10 million in fun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rogram do background checks and drug te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mbers must have have a job in stay with a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am has been found to directly reduce shootings by 16% to 34% in targeted in neighborh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4:27:43Z</dcterms:created>
  <dc:creator>admin</dc:creator>
  <dc:description/>
  <dc:language>en-US</dc:language>
  <cp:lastModifiedBy>admin</cp:lastModifiedBy>
  <dcterms:modified xsi:type="dcterms:W3CDTF">2011-10-10T15:13:14Z</dcterms:modified>
  <cp:revision>4</cp:revision>
  <dc:subject/>
  <dc:title>CRIME PREVENTION</dc:title>
</cp:coreProperties>
</file>